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340-4F58-4ADB-B30A-D4C41FBE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705-A547-43C5-9077-D84A453E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206-16B6-404B-8792-397BBBF9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1AA-A876-4A91-881F-4E865D5B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25D-170B-41D7-A9CF-D2E3033A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CD2-365B-4ACD-AF64-95A00CE5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727-FF33-40CD-B4AE-8EAAC906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7ED-2E58-4A2A-ADF6-E6FCE5E5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0E8-3736-41C8-A661-4F8F8A42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3AE-E8E6-45EA-9FEB-CD58B5CE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344-0F2F-4B44-B0E6-05DC4394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01E-853E-47AE-BCA7-4D204C05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FEE1-E124-460B-8741-0E9EC976E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ntology of cell types built by biologists for the needs of data annotation and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branch organizes and enumerates in vivo cell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ll Ontology covers cell types from all of bi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ll Ontology i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specific cell lines, immortal or otherwise, although the Cell Ontology may be used to describe such cells if they correspond to an in vivo cell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in vitro methods for preparing cell cultures, although the Cell Ontology may be used to describe the resulting cells if they correspond to an in vivo cell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927520"/>
            <a:ext cx="86868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1960" y="3621240"/>
            <a:ext cx="4419720" cy="5331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962520"/>
            <a:ext cx="73152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5029200"/>
            <a:ext cx="83818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3178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49160" y="1514520"/>
            <a:ext cx="7632720" cy="5267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coming Changes to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Ont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 of multiple is_a inheritance through instantiation of relationships to terms in outside ontologies, such as the GO cellular component, GO biological process, and the PATO phenotype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 work in progress, and we can add terms to the existing ontology a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developed in 2003 by Jonathan Bard, David States, Michael Ashburner, and Seung Rh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described in 2005, Genome Biology, 6:R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ersion i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bofoundr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file cell.o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er Hoffman of SANBI is nominally “official” curator, although the position of editor for the ontology has been unfilled for 9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ll Ontology Working Group is currently considering ways to improve the ontology from an ontological persp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atopoietic cell types were extensively revised in 2006 as part of the GO immunology revision to allow for consistency between the two ont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new cell types introduced (well over 100 cell types in to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_a parentage provided for all hematopoietically deriv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s_from parentage provided for all major hematopoietic line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 and T cell lineages were completely revised and greatly expa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enclature now reflects literature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9160" y="1514520"/>
            <a:ext cx="7632720" cy="5267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8320" y="213372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ndritic Cel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251460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514600"/>
            <a:ext cx="106668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2309760"/>
            <a:ext cx="1752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666880"/>
            <a:ext cx="12189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2927520"/>
            <a:ext cx="86868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1:27:43Z</dcterms:created>
  <dc:creator>Alexander Diehl</dc:creator>
  <dc:description/>
  <dc:language>en-US</dc:language>
  <cp:lastModifiedBy>Alexander Diehl</cp:lastModifiedBy>
  <dcterms:modified xsi:type="dcterms:W3CDTF">2008-05-13T01:30:54Z</dcterms:modified>
  <cp:revision>18</cp:revision>
  <dc:subject/>
  <dc:title>The Cell Ontology</dc:title>
</cp:coreProperties>
</file>